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920F-5FC6-473C-BADC-98593D5D45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C37B-8667-41F6-9CB8-E88A2AF8A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E21C-8244-40CD-BC62-6BC86EBAAA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028E-2D25-4715-BB3E-CB836FFDC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F27A-E31C-445A-9A15-29AB6F773D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8ABC-28F4-475A-A933-57307A0A6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C5A7-D614-4C0A-83FE-4857988E13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F7DE-91D0-4730-81FC-25DF09EFA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17CE-8305-48F2-8DEC-1690C6610E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F5F8-E1E1-45A7-B1A0-15632BA66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0400F-E286-4D2C-9C77-9A9AE3202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904CE-C998-4884-82E0-BCE2B4621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1CAC-67AA-4439-93B9-CE1FACBCD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3566-3957-479C-87EB-408207632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0699-7D32-489C-B9C2-2248FC6A5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0685-4EF3-4303-A5AA-3CACEB491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67C1-5C01-4574-9E3A-6A60206C8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E7FCB-CB7A-474C-B0C0-8B9C8034D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5BB6-9B3B-4FB8-8AC1-5CC013924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9321-65F6-4AE0-9EB9-BE3C02B31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835C2-46D1-4000-91E6-51EB93569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0E78-46D1-48F8-A01B-182B5CA17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AE05-E1B8-42C6-B911-33C3BDBCCC33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26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27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28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31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33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9-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erforming Additional Cash Payments Journal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D4AF-44A9-468F-B7B8-E2D01D45EFCC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TY CASH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C:\Documents and Settings\mcm08@fuse.net\My Documents\2005 Business Projects\Slides for Century 21 Accounting\Blue\ch09\C21_blue_0919.jpg"/>
          <p:cNvPicPr/>
          <p:nvPr/>
        </p:nvPicPr>
        <p:blipFill>
          <a:blip r:embed="rId1"/>
          <a:stretch/>
        </p:blipFill>
        <p:spPr>
          <a:xfrm>
            <a:off x="3733920" y="1447920"/>
            <a:ext cx="5181480" cy="33940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7648560" y="263196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304920" y="479736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actual amount of cash on h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8427960" y="472428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20"/>
          <p:cNvGrpSpPr/>
          <p:nvPr/>
        </p:nvGrpSpPr>
        <p:grpSpPr>
          <a:xfrm>
            <a:off x="7315200" y="3362400"/>
            <a:ext cx="1295280" cy="390600"/>
            <a:chOff x="7315200" y="3362400"/>
            <a:chExt cx="1295280" cy="390600"/>
          </a:xfrm>
        </p:grpSpPr>
        <p:sp>
          <p:nvSpPr>
            <p:cNvPr id="106" name="Freeform 18"/>
            <p:cNvSpPr/>
            <p:nvPr/>
          </p:nvSpPr>
          <p:spPr>
            <a:xfrm>
              <a:off x="7315200" y="3524400"/>
              <a:ext cx="1295280" cy="228600"/>
            </a:xfrm>
            <a:custGeom>
              <a:avLst/>
              <a:gdLst/>
              <a:ahLst/>
              <a:rect l="l" t="t" r="r" b="b"/>
              <a:pathLst>
                <a:path w="816" h="14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7802640" y="3362400"/>
              <a:ext cx="32076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24"/>
          <p:cNvGrpSpPr/>
          <p:nvPr/>
        </p:nvGrpSpPr>
        <p:grpSpPr>
          <a:xfrm>
            <a:off x="4800600" y="1619280"/>
            <a:ext cx="2438280" cy="390600"/>
            <a:chOff x="4800600" y="1619280"/>
            <a:chExt cx="2438280" cy="390600"/>
          </a:xfrm>
        </p:grpSpPr>
        <p:sp>
          <p:nvSpPr>
            <p:cNvPr id="109" name="Freeform 22"/>
            <p:cNvSpPr/>
            <p:nvPr/>
          </p:nvSpPr>
          <p:spPr>
            <a:xfrm>
              <a:off x="4800600" y="1781280"/>
              <a:ext cx="2438280" cy="228600"/>
            </a:xfrm>
            <a:custGeom>
              <a:avLst/>
              <a:gdLst/>
              <a:ahLst/>
              <a:rect l="l" t="t" r="r" b="b"/>
              <a:pathLst>
                <a:path w="816" h="14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5859360" y="1619280"/>
              <a:ext cx="32076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26"/>
          <p:cNvGrpSpPr/>
          <p:nvPr/>
        </p:nvGrpSpPr>
        <p:grpSpPr>
          <a:xfrm>
            <a:off x="5753160" y="3048120"/>
            <a:ext cx="466200" cy="609480"/>
            <a:chOff x="5753160" y="3048120"/>
            <a:chExt cx="466200" cy="609480"/>
          </a:xfrm>
        </p:grpSpPr>
        <p:sp>
          <p:nvSpPr>
            <p:cNvPr id="112" name="Freeform 25"/>
            <p:cNvSpPr/>
            <p:nvPr/>
          </p:nvSpPr>
          <p:spPr>
            <a:xfrm>
              <a:off x="5914800" y="3048120"/>
              <a:ext cx="304560" cy="609480"/>
            </a:xfrm>
            <a:custGeom>
              <a:avLst/>
              <a:gdLst/>
              <a:ahLst/>
              <a:rect l="l" t="t" r="r" b="b"/>
              <a:pathLst>
                <a:path w="192" h="384">
                  <a:moveTo>
                    <a:pt x="192" y="0"/>
                  </a:moveTo>
                  <a:lnTo>
                    <a:pt x="0" y="0"/>
                  </a:lnTo>
                  <a:lnTo>
                    <a:pt x="0" y="384"/>
                  </a:lnTo>
                  <a:lnTo>
                    <a:pt x="192" y="38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5753160" y="3200400"/>
              <a:ext cx="32040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30"/>
          <p:cNvGrpSpPr/>
          <p:nvPr/>
        </p:nvGrpSpPr>
        <p:grpSpPr>
          <a:xfrm>
            <a:off x="6477120" y="4210200"/>
            <a:ext cx="542880" cy="682560"/>
            <a:chOff x="6477120" y="4210200"/>
            <a:chExt cx="542880" cy="682560"/>
          </a:xfrm>
        </p:grpSpPr>
        <p:sp>
          <p:nvSpPr>
            <p:cNvPr id="115" name="Freeform 27"/>
            <p:cNvSpPr/>
            <p:nvPr/>
          </p:nvSpPr>
          <p:spPr>
            <a:xfrm>
              <a:off x="6639120" y="4210200"/>
              <a:ext cx="380880" cy="53316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lnTo>
                    <a:pt x="0" y="0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6477120" y="4572000"/>
              <a:ext cx="32076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9"/>
          <p:cNvGrpSpPr/>
          <p:nvPr/>
        </p:nvGrpSpPr>
        <p:grpSpPr>
          <a:xfrm>
            <a:off x="5791320" y="4038480"/>
            <a:ext cx="1228680" cy="854280"/>
            <a:chOff x="5791320" y="4038480"/>
            <a:chExt cx="1228680" cy="854280"/>
          </a:xfrm>
        </p:grpSpPr>
        <p:sp>
          <p:nvSpPr>
            <p:cNvPr id="118" name="Rectangle 10"/>
            <p:cNvSpPr/>
            <p:nvPr/>
          </p:nvSpPr>
          <p:spPr>
            <a:xfrm>
              <a:off x="5791320" y="4572000"/>
              <a:ext cx="32076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8"/>
            <p:cNvSpPr/>
            <p:nvPr/>
          </p:nvSpPr>
          <p:spPr>
            <a:xfrm>
              <a:off x="5953320" y="4038480"/>
              <a:ext cx="10666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lnTo>
                    <a:pt x="0" y="0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6775560" y="4419720"/>
            <a:ext cx="396720" cy="838080"/>
            <a:chOff x="6775560" y="4419720"/>
            <a:chExt cx="396720" cy="838080"/>
          </a:xfrm>
        </p:grpSpPr>
        <p:sp>
          <p:nvSpPr>
            <p:cNvPr id="121" name="Freeform 32"/>
            <p:cNvSpPr/>
            <p:nvPr/>
          </p:nvSpPr>
          <p:spPr>
            <a:xfrm>
              <a:off x="6934320" y="4419720"/>
              <a:ext cx="237960" cy="68580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lnTo>
                    <a:pt x="0" y="0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33"/>
            <p:cNvSpPr/>
            <p:nvPr/>
          </p:nvSpPr>
          <p:spPr>
            <a:xfrm>
              <a:off x="6775560" y="4937040"/>
              <a:ext cx="32040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35"/>
          <p:cNvSpPr/>
          <p:nvPr/>
        </p:nvSpPr>
        <p:spPr>
          <a:xfrm>
            <a:off x="30492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 and custodian 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304920" y="211464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und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304920" y="248616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ize petty cash pay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304920" y="31528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nd write the total pay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304920" y="381960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nd write the recorded amount on h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1"/>
          <p:cNvSpPr/>
          <p:nvPr/>
        </p:nvSpPr>
        <p:spPr>
          <a:xfrm>
            <a:off x="304920" y="516564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ract the actual amount on hand from the recorded amount on hand and write th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2"/>
          <p:cNvSpPr/>
          <p:nvPr/>
        </p:nvSpPr>
        <p:spPr>
          <a:xfrm>
            <a:off x="304920" y="58294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otal of the replenish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314E-CEB9-418B-A4D8-0424DBFFB2A8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ENISHING A PETTY CASH F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C:\Documents and Settings\mcm08@fuse.net\My Documents\2005 Business Projects\Slides for Century 21 Accounting\Blue\ch09\C21_blue_0920.jpg"/>
          <p:cNvPicPr/>
          <p:nvPr/>
        </p:nvPicPr>
        <p:blipFill>
          <a:blip r:embed="rId1"/>
          <a:srcRect l="3715" t="0" r="0" b="23467"/>
          <a:stretch/>
        </p:blipFill>
        <p:spPr>
          <a:xfrm>
            <a:off x="304920" y="1447920"/>
            <a:ext cx="7238880" cy="47955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1"/>
          <p:cNvSpPr/>
          <p:nvPr/>
        </p:nvSpPr>
        <p:spPr>
          <a:xfrm>
            <a:off x="3733920" y="4191120"/>
            <a:ext cx="32040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5257800" y="4191120"/>
            <a:ext cx="32076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486400" y="1447920"/>
            <a:ext cx="3198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5486400" y="1812960"/>
            <a:ext cx="3198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 ti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5486400" y="2181240"/>
            <a:ext cx="3198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5486400" y="2543040"/>
            <a:ext cx="319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nse am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5486400" y="2905200"/>
            <a:ext cx="319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short as a debit; cash over as a 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441360" y="541008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1"/>
          <p:cNvSpPr/>
          <p:nvPr/>
        </p:nvSpPr>
        <p:spPr>
          <a:xfrm>
            <a:off x="669960" y="5775480"/>
            <a:ext cx="32076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2"/>
          <p:cNvSpPr/>
          <p:nvPr/>
        </p:nvSpPr>
        <p:spPr>
          <a:xfrm>
            <a:off x="2847960" y="571500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3276720" y="4191120"/>
            <a:ext cx="32040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4"/>
          <p:cNvSpPr/>
          <p:nvPr/>
        </p:nvSpPr>
        <p:spPr>
          <a:xfrm>
            <a:off x="5486400" y="3565440"/>
            <a:ext cx="31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ash 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0EDE-7637-4F19-A5C3-A4E9415AC28E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ING, PROVING, AND RULING A CASH PAYMENTS JOURNAL PAGE TO CARRY TOTALS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C:\Documents and Settings\mcm08@fuse.net\My Documents\2005 Business Projects\Slides for Century 21 Accounting\Blue\ch09\C21_blue_0922.jpg"/>
          <p:cNvPicPr/>
          <p:nvPr/>
        </p:nvPicPr>
        <p:blipFill>
          <a:blip r:embed="rId1"/>
          <a:srcRect l="706" t="0" r="0" b="30109"/>
          <a:stretch/>
        </p:blipFill>
        <p:spPr>
          <a:xfrm>
            <a:off x="311040" y="1447920"/>
            <a:ext cx="8501040" cy="1712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793800" y="30178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523880" y="30178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3200400" y="2743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6172200" y="30178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9"/>
          <p:cNvGrpSpPr/>
          <p:nvPr/>
        </p:nvGrpSpPr>
        <p:grpSpPr>
          <a:xfrm>
            <a:off x="2514600" y="1447920"/>
            <a:ext cx="1676520" cy="1294920"/>
            <a:chOff x="2514600" y="1447920"/>
            <a:chExt cx="1676520" cy="1294920"/>
          </a:xfrm>
        </p:grpSpPr>
        <p:sp>
          <p:nvSpPr>
            <p:cNvPr id="157" name="Line 16"/>
            <p:cNvSpPr/>
            <p:nvPr/>
          </p:nvSpPr>
          <p:spPr>
            <a:xfrm flipH="1" flipV="1">
              <a:off x="2743200" y="1676160"/>
              <a:ext cx="144792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2514600" y="14479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20"/>
          <p:cNvGrpSpPr/>
          <p:nvPr/>
        </p:nvGrpSpPr>
        <p:grpSpPr>
          <a:xfrm>
            <a:off x="7772400" y="2971800"/>
            <a:ext cx="944640" cy="1325520"/>
            <a:chOff x="7772400" y="2971800"/>
            <a:chExt cx="944640" cy="1325520"/>
          </a:xfrm>
        </p:grpSpPr>
        <p:sp>
          <p:nvSpPr>
            <p:cNvPr id="160" name="Line 18"/>
            <p:cNvSpPr/>
            <p:nvPr/>
          </p:nvSpPr>
          <p:spPr>
            <a:xfrm>
              <a:off x="7772400" y="297180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8305920" y="38862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Rectangle 21"/>
          <p:cNvSpPr/>
          <p:nvPr/>
        </p:nvSpPr>
        <p:spPr>
          <a:xfrm>
            <a:off x="-37440" y="3657600"/>
            <a:ext cx="321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a single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2"/>
          <p:cNvSpPr/>
          <p:nvPr/>
        </p:nvSpPr>
        <p:spPr>
          <a:xfrm>
            <a:off x="-39240" y="402264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3"/>
          <p:cNvSpPr/>
          <p:nvPr/>
        </p:nvSpPr>
        <p:spPr>
          <a:xfrm>
            <a:off x="-47160" y="4390920"/>
            <a:ext cx="80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word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rried Forwar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Account Titl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-44640" y="4753080"/>
            <a:ext cx="62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check mark in the Post. Ref.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-40680" y="5114880"/>
            <a:ext cx="39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each column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-38160" y="5486400"/>
            <a:ext cx="32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double 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traight Connector 3"/>
          <p:cNvSpPr/>
          <p:nvPr/>
        </p:nvSpPr>
        <p:spPr>
          <a:xfrm>
            <a:off x="3886200" y="2884320"/>
            <a:ext cx="0" cy="63720"/>
          </a:xfrm>
          <a:prstGeom prst="line">
            <a:avLst/>
          </a:prstGeom>
          <a:ln w="9360">
            <a:solidFill>
              <a:srgbClr val="003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traight Connector 6"/>
          <p:cNvSpPr/>
          <p:nvPr/>
        </p:nvSpPr>
        <p:spPr>
          <a:xfrm flipV="1">
            <a:off x="3886200" y="2819160"/>
            <a:ext cx="109440" cy="128520"/>
          </a:xfrm>
          <a:prstGeom prst="line">
            <a:avLst/>
          </a:prstGeom>
          <a:ln w="9360">
            <a:solidFill>
              <a:srgbClr val="003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733920" y="2971800"/>
            <a:ext cx="206280" cy="182520"/>
          </a:xfrm>
          <a:prstGeom prst="rect">
            <a:avLst/>
          </a:prstGeom>
          <a:solidFill>
            <a:srgbClr val="ffec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7643-1B40-453E-8B59-8FF62886E24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ING A NEW CASH PAYMENTS JOURNAL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C:\Documents and Settings\mcm08@fuse.net\My Documents\2005 Business Projects\Slides for Century 21 Accounting\Blue\ch09\C21_blue_0924.jpg"/>
          <p:cNvPicPr/>
          <p:nvPr/>
        </p:nvPicPr>
        <p:blipFill>
          <a:blip r:embed="rId1"/>
          <a:stretch/>
        </p:blipFill>
        <p:spPr>
          <a:xfrm>
            <a:off x="304920" y="1447920"/>
            <a:ext cx="8534160" cy="11872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8361360" y="14940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609480" y="2560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600200" y="2560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678120" y="2560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-42120" y="3657600"/>
            <a:ext cx="470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journal page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-39240" y="402264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-47160" y="4390920"/>
            <a:ext cx="81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word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ought Forwa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Account Titl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-44640" y="4753080"/>
            <a:ext cx="62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check mark in the Post. Ref.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-41400" y="5114880"/>
            <a:ext cx="40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column tot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20"/>
          <p:cNvGrpSpPr/>
          <p:nvPr/>
        </p:nvGrpSpPr>
        <p:grpSpPr>
          <a:xfrm>
            <a:off x="4191120" y="2419200"/>
            <a:ext cx="4495680" cy="552600"/>
            <a:chOff x="4191120" y="2419200"/>
            <a:chExt cx="4495680" cy="552600"/>
          </a:xfrm>
        </p:grpSpPr>
        <p:sp>
          <p:nvSpPr>
            <p:cNvPr id="186" name="Freeform 19"/>
            <p:cNvSpPr/>
            <p:nvPr/>
          </p:nvSpPr>
          <p:spPr>
            <a:xfrm>
              <a:off x="4191120" y="2419200"/>
              <a:ext cx="4495680" cy="365400"/>
            </a:xfrm>
            <a:custGeom>
              <a:avLst/>
              <a:gdLst/>
              <a:ahLst/>
              <a:rect l="l" t="t" r="r" b="b"/>
              <a:pathLst>
                <a:path w="2832" h="192">
                  <a:moveTo>
                    <a:pt x="0" y="0"/>
                  </a:moveTo>
                  <a:lnTo>
                    <a:pt x="0" y="192"/>
                  </a:lnTo>
                  <a:lnTo>
                    <a:pt x="2832" y="192"/>
                  </a:lnTo>
                  <a:lnTo>
                    <a:pt x="283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6232680" y="25606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7810-7F80-405E-9E9E-575D8889030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693432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ING, PROVING, AND RULING A CASH PAYMENTS JOURNAL AT THE END OF A MO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4" descr="C:\Documents and Settings\mcm08@fuse.net\My Documents\2005 Business Projects\Slides for Century 21 Accounting\Blue\ch09\C21_blue_0925.jpg"/>
          <p:cNvPicPr/>
          <p:nvPr/>
        </p:nvPicPr>
        <p:blipFill>
          <a:blip r:embed="rId1"/>
          <a:srcRect l="894" t="0" r="894" b="0"/>
          <a:stretch/>
        </p:blipFill>
        <p:spPr>
          <a:xfrm>
            <a:off x="304920" y="1447920"/>
            <a:ext cx="8534160" cy="22636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345960" y="32878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1198440" y="3616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6172200" y="3703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-37440" y="4114800"/>
            <a:ext cx="321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a single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-39240" y="447984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-43560" y="4848120"/>
            <a:ext cx="68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wor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a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Account Titl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-40680" y="5210280"/>
            <a:ext cx="39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each column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-38160" y="5572080"/>
            <a:ext cx="32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double 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26"/>
          <p:cNvGrpSpPr/>
          <p:nvPr/>
        </p:nvGrpSpPr>
        <p:grpSpPr>
          <a:xfrm>
            <a:off x="2743200" y="1523880"/>
            <a:ext cx="1447560" cy="1828800"/>
            <a:chOff x="2743200" y="1523880"/>
            <a:chExt cx="1447560" cy="1828800"/>
          </a:xfrm>
        </p:grpSpPr>
        <p:sp>
          <p:nvSpPr>
            <p:cNvPr id="202" name="Line 21"/>
            <p:cNvSpPr/>
            <p:nvPr/>
          </p:nvSpPr>
          <p:spPr>
            <a:xfrm flipH="1" flipV="1">
              <a:off x="2971440" y="1828440"/>
              <a:ext cx="121932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22"/>
            <p:cNvSpPr/>
            <p:nvPr/>
          </p:nvSpPr>
          <p:spPr>
            <a:xfrm>
              <a:off x="2743200" y="15238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23"/>
          <p:cNvGrpSpPr/>
          <p:nvPr/>
        </p:nvGrpSpPr>
        <p:grpSpPr>
          <a:xfrm>
            <a:off x="7894800" y="3692520"/>
            <a:ext cx="943920" cy="1325520"/>
            <a:chOff x="7894800" y="3692520"/>
            <a:chExt cx="943920" cy="1325520"/>
          </a:xfrm>
        </p:grpSpPr>
        <p:sp>
          <p:nvSpPr>
            <p:cNvPr id="205" name="Line 24"/>
            <p:cNvSpPr/>
            <p:nvPr/>
          </p:nvSpPr>
          <p:spPr>
            <a:xfrm>
              <a:off x="7894800" y="3692520"/>
              <a:ext cx="76176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25"/>
            <p:cNvSpPr/>
            <p:nvPr/>
          </p:nvSpPr>
          <p:spPr>
            <a:xfrm>
              <a:off x="8427960" y="4606920"/>
              <a:ext cx="41076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63FC-DC77-4537-A18C-B7F248605D90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4:28Z</dcterms:created>
  <dc:creator>M. C. McLaughlin</dc:creator>
  <dc:description/>
  <dc:language>en-US</dc:language>
  <cp:lastModifiedBy>bstromes</cp:lastModifiedBy>
  <dcterms:modified xsi:type="dcterms:W3CDTF">2014-11-20T18:01:32Z</dcterms:modified>
  <cp:revision>24</cp:revision>
  <dc:subject/>
  <dc:title>Lesson 9-1</dc:title>
</cp:coreProperties>
</file>